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153-5D45-4105-8E04-F1FD6C48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7B08-1AFA-4D42-93F5-3796AE9A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4E7F-55F1-4036-9C00-1DE5755F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485F-4D43-423E-AEE6-B7A3B1A2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7A49-17D1-4420-8D14-EEE3D6C1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3976-8677-42C6-A23C-30F37200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E4DA-5B0A-4921-82DB-2F1BA582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7C3B-E37F-42E0-921A-7015556E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06FD-E11F-4515-A9A6-D2CE8DDE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42A1-1FA2-402C-9F3A-AD58E980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DDA9-ED09-4988-8FD9-81D45A77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901F-3507-4783-A8D2-AE114163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229E-7A94-4824-AC21-92D14D84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C88E-B490-4755-B8A9-0F903B29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DFD0-3AD4-41F6-B058-29E0221D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A66D-2485-429C-AF33-EA90B882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52EF-712D-4F3C-B7FE-45A78E8F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DF0-DD37-4051-88B2-55092B14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649A-1DDC-4F5D-A309-E74CCB46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0BF4-AE97-4601-B86A-00EE1341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154C-CA17-4BA8-9D3A-6B4B7176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5349-28D1-4E1E-8865-6A7B89E6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BF7D-5EBF-4A9F-BA6C-0C18EE4C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2879-6497-4D95-994E-42FD1307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0BCF-B26C-4EEF-B740-54AE932EF3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2CE6-1C32-4F28-B930-55BDD144A9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7-Jun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O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entence Combining Practi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Fall of the House Of Usher-Answer the following in your notebook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ass the time, what does Roderick do?  (Name at least 2 things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adeline dies, what does Roderick plan to do with the body?  Why?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Roderick blame for his mental st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the song/poem that Roderick wrote a foreshadowing of his f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Questions to think about as we finish the story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ffect does the storm have on the narrator and Roderi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his sister’s death, how does Roderick ch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book do they read to pass the time? How does this add to their nervous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tarts to happen to our narra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to Roderi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mework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4:41:05Z</dcterms:created>
  <dc:creator>Angie</dc:creator>
  <dc:description/>
  <dc:language>en-US</dc:language>
  <cp:lastModifiedBy>Angie</cp:lastModifiedBy>
  <dcterms:modified xsi:type="dcterms:W3CDTF">2009-08-27T05:15:40Z</dcterms:modified>
  <cp:revision>2</cp:revision>
  <dc:subject/>
  <dc:title>English</dc:title>
</cp:coreProperties>
</file>